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656B-CD9E-4010-8679-D6BE62BB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3F6C-448C-4216-AED8-4CA56063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4C08-30AC-4324-A3F5-75034CE5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9ECE-3831-4695-AC52-57918F32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F64C-CD8A-42D5-A184-B84B1A0D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E16D-135F-42B7-AADC-3B89BEA1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D5BB-1826-4166-9025-1BF7D5C3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7796-AB85-4699-82BE-567633D4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BB20-2BE0-45BE-B8EF-4FB6E901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756F-F999-4503-BE66-DEFC1F38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ABB2-690E-4485-90FB-13F4F3A5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4B55-C936-4C44-B38A-1AB0F768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B273-13A4-43E2-8504-AE4728F9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F7BE-80BA-4494-B196-348F66EF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C5B4-C728-4698-BB30-D6FF6589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5D90-B08A-4D9A-A196-3B1A3A3B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2DCF-67F7-41DD-B9AA-621ED6F3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F4DD-0E70-45A2-9436-72C2B763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4934-8A26-4FBA-913C-797449D7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1EBC-D5D2-4CB7-93A6-9339424E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1E92-8A8A-475E-8243-0BC8FA25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C841-9A0A-434C-A467-62FD37D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3669-C8D2-4DFD-A6B9-49D6459B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3214-AEC2-4CA8-BF00-07D1B96B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A061-527F-4FC8-8A8A-5B387341E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583D-DBEC-41B0-BF85-648792DCF4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. 3 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property of water allows a water strider to 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k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n wate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s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dhes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hes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Give an example of ea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s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ydrophobi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ydrophili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ubstances. Give an example of ea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Moderation of temp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ffcc00"/>
              </a:buClr>
              <a:buFont typeface="Garamond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Evaporative Coo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123920" indent="-74304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Water has high heat of vaporiz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23920" indent="-74304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Molecules with greatest KE leave as g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23920" indent="-74304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Stable temp in lakes &amp; po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23920" indent="-74304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Cool pla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23920" indent="-74304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Human swe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_x001c_03-04-EvaporativeCooling.jpg                                   0000044D&#10;KM ZIP-014                     B80260A3:"/>
          <p:cNvPicPr/>
          <p:nvPr/>
        </p:nvPicPr>
        <p:blipFill>
          <a:blip r:embed="rId1"/>
          <a:stretch/>
        </p:blipFill>
        <p:spPr>
          <a:xfrm>
            <a:off x="4191120" y="3581280"/>
            <a:ext cx="4572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Moderation of temp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37124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20720" indent="-720720">
              <a:spcBef>
                <a:spcPts val="901"/>
              </a:spcBef>
              <a:buClr>
                <a:srgbClr val="ffcc00"/>
              </a:buClr>
              <a:buFont typeface="Garamond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Insulation by i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– less dense, floating ice insulates liquid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 bel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90080" indent="-720720">
              <a:spcBef>
                <a:spcPts val="799"/>
              </a:spcBef>
              <a:buClr>
                <a:srgbClr val="a886e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fe exists under frozen surface (ponds, lakes, ocea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90080" indent="-720720">
              <a:spcBef>
                <a:spcPts val="799"/>
              </a:spcBef>
              <a:buClr>
                <a:srgbClr val="a886e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e = solid habitat (polar bea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20720" indent="-72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_x000f_03-06-Krill.jpg                                                00001616_x0010_Camp Pocketdrive               B81D7FDE:"/>
          <p:cNvPicPr/>
          <p:nvPr/>
        </p:nvPicPr>
        <p:blipFill>
          <a:blip r:embed="rId1"/>
          <a:stretch/>
        </p:blipFill>
        <p:spPr>
          <a:xfrm>
            <a:off x="5867280" y="2209680"/>
            <a:ext cx="30751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. Solvent of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Solu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liquid, homogeneous mixture of 2+ substa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Solv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dissolving agent (liqui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Solut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dissolved subst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Water = versatile sol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3" descr="03_07DissolvingSalt-L.jpg"/>
          <p:cNvPicPr/>
          <p:nvPr/>
        </p:nvPicPr>
        <p:blipFill>
          <a:blip r:embed="rId1"/>
          <a:stretch/>
        </p:blipFill>
        <p:spPr>
          <a:xfrm>
            <a:off x="5943600" y="3886200"/>
            <a:ext cx="28954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. Solvent of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ke dissolves like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2438280"/>
          <a:ext cx="7619760" cy="388620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ydrophili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ydrophobic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ffinity for H</a:t>
                      </a:r>
                      <a:r>
                        <a:rPr b="0" lang="en-US" sz="2800" spc="-1" strike="noStrike" baseline="-25000">
                          <a:solidFill>
                            <a:srgbClr val="000514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Repel H</a:t>
                      </a:r>
                      <a:r>
                        <a:rPr b="0" lang="en-US" sz="2800" spc="-1" strike="noStrike" baseline="-25000">
                          <a:solidFill>
                            <a:srgbClr val="000514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ar, 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onpo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ellulose, sugar, sa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ils, lipi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Bl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ell membra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gure 3.8  A water-soluble protein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1" descr="03_08WaterSolubleProtein-L.jpg"/>
          <p:cNvPicPr/>
          <p:nvPr/>
        </p:nvPicPr>
        <p:blipFill>
          <a:blip r:embed="rId1"/>
          <a:stretch/>
        </p:blipFill>
        <p:spPr>
          <a:xfrm>
            <a:off x="914400" y="685800"/>
            <a:ext cx="76471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5. Acids and Ba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3962520"/>
            <a:ext cx="86868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gains proton) 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Garamond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1" lang="en-US" sz="3200" spc="-1" strike="noStrike" baseline="30000">
                <a:solidFill>
                  <a:srgbClr val="ff0000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hydronium 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loses proton) 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–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b0f0"/>
                </a:solidFill>
                <a:latin typeface="Garamond"/>
              </a:rPr>
              <a:t>OH</a:t>
            </a:r>
            <a:r>
              <a:rPr b="1" lang="en-US" sz="4400" spc="-1" strike="noStrike" baseline="30000">
                <a:solidFill>
                  <a:srgbClr val="00b0f0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00b0f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00b0f0"/>
                </a:solidFill>
                <a:latin typeface="Garamond"/>
              </a:rPr>
              <a:t>hydroxide 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7"/>
          <p:cNvGrpSpPr/>
          <p:nvPr/>
        </p:nvGrpSpPr>
        <p:grpSpPr>
          <a:xfrm>
            <a:off x="3809880" y="4191120"/>
            <a:ext cx="610200" cy="154080"/>
            <a:chOff x="3809880" y="4191120"/>
            <a:chExt cx="610200" cy="154080"/>
          </a:xfrm>
        </p:grpSpPr>
        <p:cxnSp>
          <p:nvCxnSpPr>
            <p:cNvPr id="141" name="Straight Arrow Connector 4"/>
            <p:cNvCxnSpPr/>
            <p:nvPr/>
          </p:nvCxnSpPr>
          <p:spPr>
            <a:xfrm>
              <a:off x="3809880" y="4191120"/>
              <a:ext cx="6105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42" name="Straight Arrow Connector 6"/>
            <p:cNvCxnSpPr/>
            <p:nvPr/>
          </p:nvCxnSpPr>
          <p:spPr>
            <a:xfrm>
              <a:off x="3809880" y="4343400"/>
              <a:ext cx="6105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arrow" w="med"/>
            </a:ln>
          </p:spPr>
        </p:cxnSp>
      </p:grpSp>
      <p:pic>
        <p:nvPicPr>
          <p:cNvPr id="143" name="Picture 3" descr="03_UN02DissociationWater-L.jpg"/>
          <p:cNvPicPr/>
          <p:nvPr/>
        </p:nvPicPr>
        <p:blipFill>
          <a:blip r:embed="rId1"/>
          <a:stretch/>
        </p:blipFill>
        <p:spPr>
          <a:xfrm>
            <a:off x="1219320" y="1523880"/>
            <a:ext cx="6953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5. Acids and Ba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6002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Garamond"/>
              </a:rPr>
              <a:t>Acid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= increases 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oncentration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(HCl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b0f0"/>
                </a:solidFill>
                <a:uFillTx/>
                <a:latin typeface="Garamond"/>
              </a:rPr>
              <a:t>Base</a:t>
            </a:r>
            <a:r>
              <a:rPr b="0" lang="en-US" sz="3600" spc="-1" strike="noStrike">
                <a:solidFill>
                  <a:srgbClr val="00b0f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= reduces 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oncentration </a:t>
            </a:r>
            <a:r>
              <a:rPr b="0" lang="en-US" sz="3600" spc="-1" strike="noStrike">
                <a:solidFill>
                  <a:srgbClr val="00b0f0"/>
                </a:solidFill>
                <a:latin typeface="Garamond"/>
              </a:rPr>
              <a:t>(NaOH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  <a:ea typeface="ＭＳ Ｐゴシック"/>
              </a:rPr>
              <a:t>Most biological fluids are pH 6-8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6" name="Group 18"/>
          <p:cNvGrpSpPr/>
          <p:nvPr/>
        </p:nvGrpSpPr>
        <p:grpSpPr>
          <a:xfrm>
            <a:off x="736560" y="4267080"/>
            <a:ext cx="7721640" cy="2315880"/>
            <a:chOff x="736560" y="4267080"/>
            <a:chExt cx="7721640" cy="2315880"/>
          </a:xfrm>
        </p:grpSpPr>
        <p:grpSp>
          <p:nvGrpSpPr>
            <p:cNvPr id="147" name="Group 11"/>
            <p:cNvGrpSpPr/>
            <p:nvPr/>
          </p:nvGrpSpPr>
          <p:grpSpPr>
            <a:xfrm>
              <a:off x="913680" y="4952880"/>
              <a:ext cx="7163640" cy="304560"/>
              <a:chOff x="913680" y="4952880"/>
              <a:chExt cx="7163640" cy="304560"/>
            </a:xfrm>
          </p:grpSpPr>
          <p:sp>
            <p:nvSpPr>
              <p:cNvPr id="148" name="Rectangle 7"/>
              <p:cNvSpPr/>
              <p:nvPr/>
            </p:nvSpPr>
            <p:spPr>
              <a:xfrm>
                <a:off x="4571640" y="4952880"/>
                <a:ext cx="3505680" cy="3045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9" name="Rectangle 9"/>
              <p:cNvSpPr/>
              <p:nvPr/>
            </p:nvSpPr>
            <p:spPr>
              <a:xfrm>
                <a:off x="913680" y="4952880"/>
                <a:ext cx="3505680" cy="30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0" name="Rectangle 10"/>
              <p:cNvSpPr/>
              <p:nvPr/>
            </p:nvSpPr>
            <p:spPr>
              <a:xfrm>
                <a:off x="4419360" y="4952880"/>
                <a:ext cx="1522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1" name="TextBox 12"/>
            <p:cNvSpPr/>
            <p:nvPr/>
          </p:nvSpPr>
          <p:spPr>
            <a:xfrm>
              <a:off x="736560" y="527220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TextBox 13"/>
            <p:cNvSpPr/>
            <p:nvPr/>
          </p:nvSpPr>
          <p:spPr>
            <a:xfrm>
              <a:off x="4293720" y="52700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TextBox 14"/>
            <p:cNvSpPr/>
            <p:nvPr/>
          </p:nvSpPr>
          <p:spPr>
            <a:xfrm>
              <a:off x="7772400" y="5270040"/>
              <a:ext cx="68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14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TextBox 15"/>
            <p:cNvSpPr/>
            <p:nvPr/>
          </p:nvSpPr>
          <p:spPr>
            <a:xfrm>
              <a:off x="5562360" y="4267080"/>
              <a:ext cx="1371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Basic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TextBox 17"/>
            <p:cNvSpPr/>
            <p:nvPr/>
          </p:nvSpPr>
          <p:spPr>
            <a:xfrm>
              <a:off x="1980360" y="4267080"/>
              <a:ext cx="1676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Acidic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6" name="TextBox 19"/>
          <p:cNvSpPr/>
          <p:nvPr/>
        </p:nvSpPr>
        <p:spPr>
          <a:xfrm>
            <a:off x="3124080" y="5867280"/>
            <a:ext cx="27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H Scal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gure 3.10  The pH scale and pH values of some aqueous solution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1" descr="03_10_pHScale-L.jpg"/>
          <p:cNvPicPr/>
          <p:nvPr/>
        </p:nvPicPr>
        <p:blipFill>
          <a:blip r:embed="rId1"/>
          <a:stretch/>
        </p:blipFill>
        <p:spPr>
          <a:xfrm>
            <a:off x="2236680" y="636480"/>
            <a:ext cx="51548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lculating p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[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Garamond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]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] =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Garamond"/>
              </a:rPr>
              <a:t>-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700"/>
              </a:spcBef>
              <a:buClr>
                <a:srgbClr val="a886e0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 =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, then [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 =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H = -log [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Garamond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700"/>
              </a:spcBef>
              <a:buClr>
                <a:srgbClr val="a886e0"/>
              </a:buClr>
              <a:buSzPct val="50000"/>
              <a:buFont typeface="Garamond"/>
              <a:buChar char="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 =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700"/>
              </a:spcBef>
              <a:buClr>
                <a:srgbClr val="e5e5ff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log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2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-(-2) =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700"/>
              </a:spcBef>
              <a:buClr>
                <a:srgbClr val="e5e5ff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fore, pH =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700"/>
              </a:spcBef>
              <a:buClr>
                <a:srgbClr val="a886e0"/>
              </a:buClr>
              <a:buSzPct val="5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[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 =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700"/>
              </a:spcBef>
              <a:buClr>
                <a:srgbClr val="e5e5ff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 =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700"/>
              </a:spcBef>
              <a:buClr>
                <a:srgbClr val="e5e5ff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log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4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-(-4) = 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700"/>
              </a:spcBef>
              <a:buClr>
                <a:srgbClr val="e5e5ff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fore, pH = 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5. Acids and Ba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Buff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minimize changes in concentra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a solution (weak acids and bas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ffers keep blood at pH ~7.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blood drops to 7 or up to 7.8, then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arbonic Acid – Bicarbonate Syst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important buffers in blood plas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5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350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(carbonic acid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nstanti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(bicarbonate) +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ater and the Fitness of the Environm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03_11OceanAcidification-L.jpg"/>
          <p:cNvPicPr/>
          <p:nvPr/>
        </p:nvPicPr>
        <p:blipFill>
          <a:blip r:embed="rId1"/>
          <a:stretch/>
        </p:blipFill>
        <p:spPr>
          <a:xfrm>
            <a:off x="85680" y="1295280"/>
            <a:ext cx="2581200" cy="4348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03_12_ImpactCoralReef-L.jpg"/>
          <p:cNvPicPr/>
          <p:nvPr/>
        </p:nvPicPr>
        <p:blipFill>
          <a:blip r:embed="rId2"/>
          <a:stretch/>
        </p:blipFill>
        <p:spPr>
          <a:xfrm>
            <a:off x="2666880" y="1981080"/>
            <a:ext cx="6413760" cy="26989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"/>
          <p:cNvSpPr/>
          <p:nvPr/>
        </p:nvSpPr>
        <p:spPr>
          <a:xfrm>
            <a:off x="7632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cean acidification threatens coral reef eco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228600" y="5943600"/>
            <a:ext cx="86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mixed with seawat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arbonic acid (lowers ocean pH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ffects of acid precipitation on a forest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Picture 4" descr="_x0012_03-10-AcidRain.jpg                                             0000044D&#10;KM ZIP-014                     B80260A3:"/>
          <p:cNvPicPr/>
          <p:nvPr/>
        </p:nvPicPr>
        <p:blipFill>
          <a:blip r:embed="rId1"/>
          <a:stretch/>
        </p:blipFill>
        <p:spPr>
          <a:xfrm>
            <a:off x="76320" y="609480"/>
            <a:ext cx="899136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0" y="0"/>
          <a:ext cx="9144000" cy="6784920"/>
        </p:xfrm>
        <a:graphic>
          <a:graphicData uri="http://schemas.openxmlformats.org/drawingml/2006/table">
            <a:tbl>
              <a:tblPr/>
              <a:tblGrid>
                <a:gridCol w="2895480"/>
                <a:gridCol w="3276720"/>
                <a:gridCol w="2971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 Proper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aaad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emical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aaad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amples of Benefits to Lif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aaadc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ohe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-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ike-li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↑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ravity plants, tre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514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dhe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-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unlike-unli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lants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xyl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blood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e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urface Ten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iff. in stret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break surf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-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bugs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pecific H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bsorbs &amp; retains 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-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cean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d temp 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rotect marine li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vapo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iquid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oo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omeosta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Universal Subst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arity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o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-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ood dissol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olv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5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 Must Kn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mportance of hydrogen bonding to the properties of 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 unique properties of water, and how each contributes to life on Ear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to interpret the pH sca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mportance of buffers in biological syst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. Polarity of 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ll bond with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n a different molecule of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=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hydrogen b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can form up to 4 b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3" descr="03_02HBondWater-L.jpg"/>
          <p:cNvPicPr/>
          <p:nvPr/>
        </p:nvPicPr>
        <p:blipFill>
          <a:blip r:embed="rId1"/>
          <a:stretch/>
        </p:blipFill>
        <p:spPr>
          <a:xfrm>
            <a:off x="2971800" y="3427560"/>
            <a:ext cx="32767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Properties of 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ohes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H-bonding  betw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rface Tens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measure of how difficult it is to break or stretch surface of liqu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_x0016_03-03-WaterStrider.jpg                                         0000044D&#10;KM ZIP-014                     B80260A3:"/>
          <p:cNvPicPr/>
          <p:nvPr/>
        </p:nvPicPr>
        <p:blipFill>
          <a:blip r:embed="rId1"/>
          <a:stretch/>
        </p:blipFill>
        <p:spPr>
          <a:xfrm>
            <a:off x="2666880" y="3359160"/>
            <a:ext cx="4343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Properties of 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dhes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bonding betwe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li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hesion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to vessel walls counters ↓ pull of gra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200400" y="34099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Properties of 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.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Transpiration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movement of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up 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lings to each other b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cohes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 cling to xylem tubes b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adhe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_x0018_03-02-WaterTransport.jpg                                       00001616_x0010_Camp Pocketdrive               B81D7FDE:"/>
          <p:cNvPicPr/>
          <p:nvPr/>
        </p:nvPicPr>
        <p:blipFill>
          <a:blip r:embed="rId1"/>
          <a:stretch/>
        </p:blipFill>
        <p:spPr>
          <a:xfrm>
            <a:off x="2057400" y="3352680"/>
            <a:ext cx="548640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Moderation of temp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Total amount of KE in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measure intensity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ue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KE of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has higher tem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he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4322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Moderation of temp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ter</a:t>
            </a:r>
            <a:r>
              <a:rPr b="0" lang="ja-JP" sz="36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high specific he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nge temp less when absorbs/loses he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bodies of water absorb and store more heat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armer coastal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 stable marine/land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ans ~65%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table temp, resist temp.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3" descr="03_05EffectWaterClimate-L.jpg"/>
          <p:cNvPicPr/>
          <p:nvPr/>
        </p:nvPicPr>
        <p:blipFill>
          <a:blip r:embed="rId1"/>
          <a:stretch/>
        </p:blipFill>
        <p:spPr>
          <a:xfrm>
            <a:off x="3124080" y="4343400"/>
            <a:ext cx="57168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3:22:27Z</dcterms:created>
  <dc:creator>Chris Nancy Chou</dc:creator>
  <dc:description/>
  <dc:language>en-US</dc:language>
  <cp:lastModifiedBy>local</cp:lastModifiedBy>
  <dcterms:modified xsi:type="dcterms:W3CDTF">2012-09-06T14:52:06Z</dcterms:modified>
  <cp:revision>41</cp:revision>
  <dc:subject/>
  <dc:title>Warm-Up</dc:title>
</cp:coreProperties>
</file>